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6012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93552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877392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935520" y="877392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A46623F-5F28-432C-9483-D66BE836BE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779A1CB-3122-449F-B74E-97F7C86B49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BE47F4D-05E9-4557-8E9E-09518EB4E9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4FAAFF2-2553-480A-89ED-B5ED38003A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C27D4EA-59CF-43FF-A836-8A0462C67E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EFEB7F0-C1DD-4E98-9498-0A99FD1722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DF34931-10A9-488F-B6C0-B5FA068CF8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2C2E369-E610-4BBA-8768-451B2A0E52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DCB0C07-2F6D-4DCC-9CE7-EE186B113B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51E3FEB-45CF-4905-A5C0-6262EDF2B3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2F3B601-675A-4327-8281-553EB03ED7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8DD5690-5E35-482E-8CB6-31B4257EB6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E1944AD-3460-4041-87F2-6CDF8152FE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D087D17-3D8B-44CD-9370-5DC82F4E25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C7EF873-6AD4-4EF8-883C-AB8633F282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D69005F-A599-4E7C-BA09-92F498EED1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C1E5335-A91E-4E84-9A83-2ACCA0EA33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E74C6C4-76E2-4F37-9BBD-19EC3CB84D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3AD5377-6163-4C4A-91B9-117DD208E9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B78A20A-BB83-403C-824C-6ADF4414E8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6E312ED-A8A7-416C-9698-38E45CA972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6DE9A83-A41B-44D5-9967-18CC9A30B4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B397E5D-05EC-4F59-875E-1739D0565E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24CAEA0-AD6F-47B9-92AB-4D4D6AC456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2F80EE6-F3B6-4DEF-A73F-5E89D67347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C2FBE25-4ACB-4857-92A1-4538C21B47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EFDDAE1-7454-458A-B162-C3857F7F85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4A5EEFA-13D3-46B3-970F-B5A7C670B6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5D4A616-8166-40AC-8F0E-9A4912612A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AEB8969-C2C6-493F-8D1B-253CDA5B6B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1FD4210-DD88-4EB7-8923-D3DF42F612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F3681FA-0632-406F-952F-AC00A8DDE1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1E06379-A193-4588-B79D-D2C62AE53F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F409FF4-99CB-4006-8AA8-1719FC3642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1983791-4135-42E3-BF99-25E085CD75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487D72E-E9C3-4EA0-9F77-6F9372FAAA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04505F1-D9C2-41C0-863C-7DDF98E518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39E5F10-CFD8-46DC-8380-87E3A93D4E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48D423A-257C-487C-8DDA-1E496213C8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9F5B612-8FCE-4705-AC63-784082B9D1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576D725-46F0-4882-B9E3-2FF0137390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349F63B-F3C6-4CAF-989C-6B52D6D9D6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700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532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5868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700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532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51200" y="302760"/>
            <a:ext cx="72626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1700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7532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5868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1700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7532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51200" y="302760"/>
            <a:ext cx="72626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4" descr=""/>
          <p:cNvPicPr/>
          <p:nvPr/>
        </p:nvPicPr>
        <p:blipFill>
          <a:blip r:embed="rId2"/>
          <a:stretch/>
        </p:blipFill>
        <p:spPr>
          <a:xfrm>
            <a:off x="0" y="0"/>
            <a:ext cx="9602640" cy="938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Bef>
                <a:spcPts val="876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7280" indent="-260640">
              <a:spcBef>
                <a:spcPts val="876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252720">
              <a:spcBef>
                <a:spcPts val="876"/>
              </a:spcBef>
              <a:buClr>
                <a:srgbClr val="ff9900"/>
              </a:buClr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960" indent="-255960">
              <a:spcBef>
                <a:spcPts val="876"/>
              </a:spcBef>
              <a:buClr>
                <a:srgbClr val="ff9900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96840" indent="-301680">
              <a:spcBef>
                <a:spcPts val="876"/>
              </a:spcBef>
              <a:buClr>
                <a:srgbClr val="ff99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87040" y="6600600"/>
            <a:ext cx="7736040" cy="231840"/>
          </a:xfrm>
          <a:prstGeom prst="rect">
            <a:avLst/>
          </a:prstGeom>
          <a:noFill/>
          <a:ln w="0">
            <a:noFill/>
          </a:ln>
        </p:spPr>
        <p:txBody>
          <a:bodyPr lIns="0" rIns="9396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ageRef"/>
          <p:cNvSpPr/>
          <p:nvPr/>
        </p:nvSpPr>
        <p:spPr>
          <a:xfrm>
            <a:off x="8731080" y="6553080"/>
            <a:ext cx="4701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fld id="{18E8E179-3AF8-44B3-8DD0-E165CAC8471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26"/>
          <p:cNvSpPr/>
          <p:nvPr/>
        </p:nvSpPr>
        <p:spPr>
          <a:xfrm>
            <a:off x="914400" y="0"/>
            <a:ext cx="938160" cy="9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7" descr="print_ga"/>
          <p:cNvPicPr/>
          <p:nvPr/>
        </p:nvPicPr>
        <p:blipFill>
          <a:blip r:embed="rId3"/>
          <a:srcRect l="0" t="0" r="0" b="10662"/>
          <a:stretch/>
        </p:blipFill>
        <p:spPr>
          <a:xfrm>
            <a:off x="938160" y="133200"/>
            <a:ext cx="84780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51"/>
          <p:cNvGrpSpPr/>
          <p:nvPr/>
        </p:nvGrpSpPr>
        <p:grpSpPr>
          <a:xfrm>
            <a:off x="0" y="0"/>
            <a:ext cx="9602640" cy="6859440"/>
            <a:chOff x="0" y="0"/>
            <a:chExt cx="9602640" cy="6859440"/>
          </a:xfrm>
        </p:grpSpPr>
        <p:pic>
          <p:nvPicPr>
            <p:cNvPr id="44" name="Picture 24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602640" cy="68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249"/>
            <p:cNvSpPr/>
            <p:nvPr/>
          </p:nvSpPr>
          <p:spPr>
            <a:xfrm>
              <a:off x="1228680" y="630360"/>
              <a:ext cx="3103560" cy="82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250" descr=""/>
            <p:cNvPicPr/>
            <p:nvPr/>
          </p:nvPicPr>
          <p:blipFill>
            <a:blip r:embed="rId3"/>
            <a:srcRect l="12649" t="94194" r="71422" b="0"/>
            <a:stretch/>
          </p:blipFill>
          <p:spPr>
            <a:xfrm>
              <a:off x="1224000" y="6127920"/>
              <a:ext cx="1530360" cy="39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248" descr="print_ga"/>
          <p:cNvPicPr/>
          <p:nvPr/>
        </p:nvPicPr>
        <p:blipFill>
          <a:blip r:embed="rId4"/>
          <a:srcRect l="0" t="0" r="0" b="10631"/>
          <a:stretch/>
        </p:blipFill>
        <p:spPr>
          <a:xfrm>
            <a:off x="1268280" y="225360"/>
            <a:ext cx="1798920" cy="1546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Bef>
                <a:spcPts val="876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7280" indent="-260640">
              <a:spcBef>
                <a:spcPts val="876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252720">
              <a:spcBef>
                <a:spcPts val="876"/>
              </a:spcBef>
              <a:buClr>
                <a:srgbClr val="ff9900"/>
              </a:buClr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960" indent="-255960">
              <a:spcBef>
                <a:spcPts val="876"/>
              </a:spcBef>
              <a:buClr>
                <a:srgbClr val="ff9900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96840" indent="-301680">
              <a:spcBef>
                <a:spcPts val="876"/>
              </a:spcBef>
              <a:buClr>
                <a:srgbClr val="ff99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aepd.org/Documents/305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aepd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epd.org/NPDES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aepd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mailto:Frank.Carubba@dnr.state.ga.us" TargetMode="Externa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163440" y="1089000"/>
            <a:ext cx="9075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For Storm Water Dis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Associated with Construction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9933"/>
                </a:solidFill>
                <a:latin typeface="Arial Black"/>
              </a:rPr>
              <a:t>March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3444840" y="3517920"/>
          <a:ext cx="257508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4840" y="3517920"/>
                    <a:ext cx="257508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784520"/>
            <a:ext cx="8158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order to be eligible for this exemption,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frastructure maintenance pro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ust comply with the following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mass grad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ilized by the end of each day with temporary or permanent stabiliza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dur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20 calendar day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stabil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plemented at the end of the maintenance project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II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charges into, or within One Mile Upstream of and within the Same Watershed as, Any Portion of a Biota Impaired Str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when th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iti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otice of Intent is submit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Impaired Stream Segment has been listed for the criteria violated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Bio F” (Impaired Fish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Bio M” (Impaired Macroinvertebrate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ithin Category 4a, 4b or 5, and the potential cause is either “NP” (nonpoint source) or “UR” (urban runoff),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the ES&amp;PC Plan must include at least four (4) of the  BMPs listed in Part III.C.2. (a) – (u) of the perm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305(b)/303(d) List Documents (Final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orgia’s 2012 and subsequent “305(b)/303(d) List Documents (Final)” can be viewed on the GAEPD website, </a:t>
            </a: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ea typeface="Times New Roman"/>
                <a:hlinkClick r:id="rId1"/>
              </a:rPr>
              <a:t>epd.georgia.g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IS Data Sets for biota impaired streams are available on the GAEPD website in ESRI Geodatabase 9.1 format and ESRI Shapefile form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iteria violated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Bio F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Impaired Fish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/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Bio M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Impaired Macroinvertebrate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tential causes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NP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nonpoint sourc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UR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urban runoff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9200" y="979200"/>
            <a:ext cx="895824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Total Maximum Daily Loads (TMDL)</a:t>
            </a:r>
            <a:br>
              <a:rPr sz="3200"/>
            </a:b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Implementation P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&amp;PC Plan must address any site-specific conditions or requirements included in the TMDL Implementation Plan, if the TMDL Implementation Plan for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ed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finalized at least six months prior to submittal of th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ice of I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f TMDL Implementation Plans can be viewed on the GAEPD website, </a:t>
            </a: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III.C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eria Viol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io M (Impaired Macroinvertebrate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P (Nonpoint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4a (Water not supporting its use and                                 a TMDL has been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0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MDL for Sediment – February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ted Sediment Loading Rates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age Area – 47 sq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diment Rate – 422 tons/sq mile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tal Load – 19,000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d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ading Rates that Big Creek can assimilate and achieve water quality stand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 (Point Sources) – 0.16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 (Nonpoint Sourcs) – 13 tons/sq mile/y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MDL – 622 tons/ 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7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Sediment Loa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9,000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DL for Sedimen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22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Reduction of Sediment Load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9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MDL Implementation Plan – April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local municipal and county E&amp;SC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Erosion and Sedimentation Act and applicable Rules and Reg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GSWCC Education and Training Certification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9200" y="979200"/>
            <a:ext cx="895824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Total Maximum Daily Loads (TMDL)</a:t>
            </a:r>
            <a:br>
              <a:rPr sz="3200"/>
            </a:b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Implementation P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378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site-specific conditions or requirements have been included in the TMDL Implementation Plan for the applicable impaired stream seg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PDES construction activities are considered a significant source of pollution and compliance with the Permits should lead to sediment loading for construction sites at or below applicable target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58960" y="1506240"/>
            <a:ext cx="60040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20640" y="2259000"/>
            <a:ext cx="84456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ffective September 24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1 – Stand Alone Constr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2 – Infrastructure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3 – Common Development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Current NPDES General Permit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on the GAEPD and GSWCC websi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 u="sng">
                <a:solidFill>
                  <a:srgbClr val="4f7296"/>
                </a:solidFill>
                <a:uFillTx/>
                <a:latin typeface="Arial"/>
              </a:rPr>
              <a:t>gaswcc.georgia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0" descr="C:\Program Files\Microsoft Office\MEDIA\OFFICE14\Lines\BD21348_.gif"/>
          <p:cNvPicPr/>
          <p:nvPr/>
        </p:nvPicPr>
        <p:blipFill>
          <a:blip r:embed="rId2"/>
          <a:stretch/>
        </p:blipFill>
        <p:spPr>
          <a:xfrm>
            <a:off x="2095560" y="298764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8320" y="1936440"/>
            <a:ext cx="81583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rosion, Sedimentation and Pollution Control Pl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S&amp;PC Plan is Crit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The Plan must be prepared in accordance with Part IV of the Permit and the Plan must be implemented and the Plan must provide for compliance with the Permi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C:\Documents and Settings\fcarubba\Local Settings\Temporary Internet Files\Content.IE5\23TN59Q2\MC900360580[1].wmf"/>
          <p:cNvPicPr/>
          <p:nvPr/>
        </p:nvPicPr>
        <p:blipFill>
          <a:blip r:embed="rId1"/>
          <a:stretch/>
        </p:blipFill>
        <p:spPr>
          <a:xfrm>
            <a:off x="3362400" y="2916360"/>
            <a:ext cx="2346120" cy="2182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ES&amp;PC Plan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lan must include the applicable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S&amp;PC Plan Check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veloped the GSWCC, available on both the GAEPD and GSWCC website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ed January 20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MPs identified in Part III.C.2.(a) – (u) of the new Permits have been listed in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ppendix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ES&amp;PC Plan Checklist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ed January 20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S&amp;PC Plan Checklist should not be used in lieu of reading and understanding all of the Permit conditions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hecklist do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ress Parts I, II, III, V or VI  of the Perm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ermit Reference:  Part IV.D.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6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ES&amp;PC Plan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neation of on-site wetlands and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 waters located on and within 200 feet of the construction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lineation of the applicable 25-ft and/or 50-ft buffers adjacent to State waters and any additional buffers required by a Local Issuing Authority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neation of all sampling locations and locations where storm water is discharged to a surface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ermit Reference:  Part IV.D.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s per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Georgia Erosion and Sedimentation Ac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nd local Erosion and Sedimentation Control Ordin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TE WA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udes any and all rivers, streams, creeks, branches, lakes, reservoirs, ponds, drainage systems, springs, wells, and other bodies of surface or subsurface water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atu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tific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ying within or forming a part of the boundaries of the State, which are not entirely confined and retained completely upon the property of a single individual, partnership, or corpo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29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Buffer Determinations for Tidal Creeks and Saltwater Mars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Judson H. Turner, EPD Director, April 2014 Memorandum - available on the GAEPD website, </a:t>
            </a:r>
            <a:r>
              <a:rPr b="0" lang="en-US" sz="20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thodology for Identification of Intermittent and Perennial Streams and Their Origi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ersion 4.11, North Carolina Division of Water Qual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Effective September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groundwater base flows are present, the stream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will require a buf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feature is dry, then the stream may be intermittent or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phem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If there is no flowing water within 48 hours of a rain event, the drainage feature is most probably ephemeral. </a:t>
            </a: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for well defined channel and point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rested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getation – vegetation wrested from the channel f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normal stream flow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ave ac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33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s on State Waters are measured from the point wher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egetation has been wrested by normal stream flow or wave action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rested Vege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ovement of water that removes soil, debris and vegetation, creating a clear demarcation between water flow and vegetative growth. </a:t>
            </a: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Stream Buffer Requirements: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n-tr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warm wa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: 25-ft buffer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cold wa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: 50-ft buffer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hem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25-ft or 50-ft buffer requirements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pplicable to ponds, lakes, and reservoi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Additional Stream Buffer Exe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hemeral Streams (Excluding Trout Stre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kheads and Seawalls on Lake Oconee and Lake Sincl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enance, Repair and/or Upgrade of SWCD Watershed Dams when under the Technical Supervision of the USDA NR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am Crossing for Utility Lines for any EMC or Public Utility under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gulatory Jurisdiction of the PSC and/or FER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any Cable Televis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ht-of-Way Posts, Guy Wires, Anchors, Survey Markers and the Replacement of or Maintenance of Existing Utility Structures under the regulatory jurisdiction of the PSC and/or FERC or roadway projects undertaken by DOT or any municipality or coun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Design 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ND AL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MON DEVELOP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itial sediment storage requirements and perimeter control BMP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non-linea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FRASTRU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itial sediment storage requirements and perimeter control BMP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743120" y="4319640"/>
            <a:ext cx="5715000" cy="9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46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ading and understanding the Permits are essential to maintaining compli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piration Date – July 31,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9" descr=""/>
          <p:cNvPicPr/>
          <p:nvPr/>
        </p:nvPicPr>
        <p:blipFill>
          <a:blip r:embed="rId1"/>
          <a:stretch/>
        </p:blipFill>
        <p:spPr>
          <a:xfrm>
            <a:off x="3511440" y="2908440"/>
            <a:ext cx="2229120" cy="288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4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Design 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ly, 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rastructure 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ediment storage requirements and perimeter control BMPs for the INITIAL PHASED SUB-PART OR SEGMENT of the linear infrastructure project and ALL SEDIMENT BASIN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urbed acreage of the initial phased sub-part or segment of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rastructure project must be equal to or greater than 10% of total disturbed acreage but not less than one(1) ac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Insp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imary Permitt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ertiary Permitt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asure rainfall once every 24 h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xcept any    non-working Saturday, Sunday and Federal holiday until  a NOT is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of rainfall may be suspended if all areas of the site have undergon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stabi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tablished a crop of annual vegetation and a seeding of target perenn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711440" y="4287960"/>
            <a:ext cx="5715000" cy="9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5440" y="1063800"/>
            <a:ext cx="864252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ination of Coverag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-2562120"/>
            <a:ext cx="424332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79160" y="2174400"/>
            <a:ext cx="424332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125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INAL STABILIZATION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means “…100% of the soil surface is uniformly covered in permanent vegetation with a density of 70% or greater, or landscaped according to the Plan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uniformly covered with landscaping materials in planned landscaped area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or equivalent permanent stabilization measures as defined in the Manual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excluding a crop of annual vegetation and seeding of target perennials appropriate for the region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125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33720" y="2650680"/>
            <a:ext cx="424476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876920" y="2286000"/>
            <a:ext cx="3471840" cy="31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C:\Documents and Settings\Snoakes\My Documents\My Pictures\BMP1_35A.gif"/>
          <p:cNvPicPr/>
          <p:nvPr/>
        </p:nvPicPr>
        <p:blipFill>
          <a:blip r:embed="rId1"/>
          <a:stretch/>
        </p:blipFill>
        <p:spPr>
          <a:xfrm>
            <a:off x="4648320" y="1892160"/>
            <a:ext cx="4467240" cy="3759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ermitte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Primary, Secondary or Tertiary) may submit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tice of Termina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NOT)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ediatel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ruction activities have been completed and the entire development has undergone final stabilizatio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 defined in the new perm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orm water discharges associated with construction activities have ceased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is in compliance with the Per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VI.A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mittee may submit a Notice of Termination (NOT)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for each phase of the infrastructure project, not to exceed four (4) ph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urbed acreage for each phase must be equal or greater than 25% of the total disturbed acreage – except for the final phase,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disturbed acreage for the final phase must be equal to or greater than 10% of the total disturbed acre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tees may submit a Notice of Termination (NOT) if coverage under the 2013 NPDES General Permit No. GAR100002 is not required for the Primary Permittee of 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infrastructure construction pro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ntiguous Areas of Land Disturb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outine Mainten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infrastructure construction project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been redefined in the 2013 NPDES General Permit No. GAR10000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01360" y="2009520"/>
            <a:ext cx="815796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Notice of Termination – Attach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 of the NOI previously submitted for coverage under the 2013 NPDES General Permits for Construction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ies of al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ampling repo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/or written justification why sampling was not condu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PS locations of the beginning and end of each phase of a linear infrastructure construction project and if applicable, maps identifying significant landmar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ation that coverage under the 2013 NPDES General Permit No. GAR100002 is no longer required (e.g., resulting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iguous land disturb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ss than one (1) acre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utine mainten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58680" y="1910880"/>
            <a:ext cx="8158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imary Permitte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f a Common Development may submit a NOT, even if al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n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onstruction activities hav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en completed, if and only i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activities have stopped for at least 90 day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stabilization has been implemented by the Primary Permittee and all Secondary Permitte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econdary Permittees have submitted a NOT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is in compliance with the Per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spcBef>
                <a:spcPts val="150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VI.A.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tiary Permittee – Common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rimary Permittee must notify the legal title holders of each remaining lot(s) that these lot Owners or Operators will become Tertiary Permittee(s) –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licable to all lots, including lots that are less than one 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ERTIARY PERMITT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s either the Owner or Operator of a remaining lot(s) within a Common Development where the Primary Permittee and all Secondary Permittees have submitted a NOT in accordance with the Permit (excluding utility companies and contractors working under a Blanket NO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tiary Permitte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01360" y="1838160"/>
            <a:ext cx="815796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1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wner may submit a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tice of Intent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Tertiary Permittee and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&amp;PC Plan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prepared and submitted.  For each NOI submitted, the Tertiary Permittee must submit a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I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Tertiary Permittee for the entire construction site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f the owner’s construction site is less than five acres and total land disturbance within each individual lot is less than one 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&amp;PC Plan for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ypical individual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n submit a NOT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f the permittee failed to submit a NOI Re-Issuance         Notification by deadline (December 24, 201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 to comply with this requirement shall constitute a violation of the Georgia Water Control Act for each day until an 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initial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”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I – Version 201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spcBef>
                <a:spcPts val="374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the permittee mus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repare and submit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 new ES&amp;PC Pl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ccordance with Part IV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mits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ay all applicable fe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ject in accordance with Part II.D of the perm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tiary Permitte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01360" y="1837800"/>
            <a:ext cx="8157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3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tice of Intent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tire construction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&amp;PC Plan for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tire construction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owner may submit the NOI – Initial Notification as either a Primary Permittee or Tertiary Permittee and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Permittees must provide copies of the Plan to all Secondary Permitt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Permittees are solely responsible for the payment of NPDES General Permit fees for all planned land disturbing activities – including land disturbing activities planned by any Secondary Permitte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7080" y="1214280"/>
            <a:ext cx="788688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Contact Informa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06480" y="2030400"/>
            <a:ext cx="8158320" cy="42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EPD Contact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ank M. Caru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:  (404) 651-85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Frank.Carubba@dnr.state.ga.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C:\Program Files\Microsoft Office\MEDIA\CAGCAT10\j0233018.wmf"/>
          <p:cNvPicPr/>
          <p:nvPr/>
        </p:nvPicPr>
        <p:blipFill>
          <a:blip r:embed="rId2"/>
          <a:stretch/>
        </p:blipFill>
        <p:spPr>
          <a:xfrm>
            <a:off x="3922560" y="1847880"/>
            <a:ext cx="210996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INAL STABILIZATION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means “…100% of the soil surface is uniformly covered in permanent vegetation with a density of 70% or greater, or landscaped according to the Plan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uniformly covered with landscaping materials in planned landscaped area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or equivalent permanent stabilization measures as defined in the Manual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excluding a crop of annual vegetation and seeding of target perennials appropriate for the region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UB-CONTRACTOR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means an entity employed or retained by the permittee to conduct any type of construction activity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as defined in this permit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a construction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  <a:ea typeface="Arial"/>
              </a:rPr>
              <a:t>Sub-contractors must complete the appropriate certification course approved by the Georgia Soil and Water Conservation Commission in accordance with the provisions of O.C.G.A. §12-7-19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71720"/>
            <a:ext cx="815832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ERTIFIED PERSONN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ans a person who has successfully completed the appropriate certification course approved by the GSWCC. (O.C.G.A. 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7-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Subcontractors retained by a Per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&amp;SC Inspectors retained by a Per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gulatory Enforcement Insp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esign Professionals and Plan Reviewer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C:\Program Files\Microsoft Office\MEDIA\OFFICE14\Lines\BD14801_.gif"/>
          <p:cNvPicPr/>
          <p:nvPr/>
        </p:nvPicPr>
        <p:blipFill>
          <a:blip r:embed="rId1"/>
          <a:stretch/>
        </p:blipFill>
        <p:spPr>
          <a:xfrm>
            <a:off x="1859040" y="390672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784520"/>
            <a:ext cx="815832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TIGUOUS AREAS OF LAND DISTURBANC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purposes of this permit, “include those areas of land disturbances solely separated by drilling and boring activities, water of the State and adjacent State-mandated buffers, roadways and/or railways.  In addition, contiguous areas of land disturbances include all areas of land disturbances at a sole roadway intersection and/or junction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6000" y="1794960"/>
            <a:ext cx="815796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verage under this permit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quired for infrastructure construction projects that consist solely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outine maintenanc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for the original purpose of the facility that is performed to maintain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riginal line and grad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and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ydraulic capacity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596960" y="236376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C:\Program Files\Microsoft Office\MEDIA\OFFICE14\Lines\BD21348_.gif"/>
          <p:cNvPicPr/>
          <p:nvPr/>
        </p:nvPicPr>
        <p:blipFill>
          <a:blip r:embed="rId2"/>
          <a:stretch/>
        </p:blipFill>
        <p:spPr>
          <a:xfrm>
            <a:off x="1825560" y="5627520"/>
            <a:ext cx="5715000" cy="123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18:21:18Z</dcterms:created>
  <dc:creator>Ali Wagner</dc:creator>
  <dc:description/>
  <dc:language>en-US</dc:language>
  <cp:lastModifiedBy>Carubba, Frank</cp:lastModifiedBy>
  <cp:lastPrinted>2014-05-08T15:05:27Z</cp:lastPrinted>
  <dcterms:modified xsi:type="dcterms:W3CDTF">2015-02-26T16:42:53Z</dcterms:modified>
  <cp:revision>1122</cp:revision>
  <dc:subject/>
  <dc:title>Title goes here – this sample illustrates a two-line title This is a sample sub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OA_FontSize">
    <vt:lpwstr>Medium</vt:lpwstr>
  </property>
  <property fmtid="{D5CDD505-2E9C-101B-9397-08002B2CF9AE}" pid="3" name="MMCOA_Template">
    <vt:lpwstr>\MMC Medium Fonts.pot</vt:lpwstr>
  </property>
</Properties>
</file>