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601200" cy="68580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3552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35520" y="877392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b">
            <a:noAutofit/>
          </a:bodyPr>
          <a:lstStyle>
            <a:lvl1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FDFD08A-67BA-4700-8337-4F7FF21688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088EDF1-FC7F-48A7-BD14-D904D4E0D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3DA53E0-64EF-47BC-B366-4A0FE1DE95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A615943B-956B-4F0F-A83A-9A617CE94F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C92F5FF-200F-4E02-8362-17C6BD62EB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BE3957D-3E2C-46FC-9DF0-9DEB60FE0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69B9DD5-00AC-440C-A29D-CA903872A4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AF30129-37EF-490C-986B-669F18318F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D98B59-365B-457A-A162-F6CEAC6CC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581BA2A-FB85-416F-89F2-AA02C4E4E1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0C15E91C-B20B-47AE-B9C1-A823C4B6D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0C28C7-19E2-4B0F-977D-191C817E77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A695A97-33CD-485E-8980-FC1B1A6C92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44E0B08-0775-461C-BD96-2217725371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2975894-4CE3-4E18-A7FA-0EB717A03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200D8F2-D980-4E78-BED5-159339CB6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CA1458C-9902-4794-A633-FA44128B8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512399A-D6E6-4BC8-95B8-790DF96A5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963C728-5F28-491A-808E-AC01E57AB4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80CEBE4-B8C3-4CDC-84A7-66A2151F0C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2A7B06A-892B-414E-BB80-FD8C55524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D20A14E-B6C9-4938-B9A4-5BF60210AC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0122E8D-13A5-4272-ABEE-522D56E793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69B9C41-C6C5-490C-B29F-275F860CB4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953E8EB-0C78-4D3C-8ED4-C6C0007B2B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744B66F-B65B-42B3-B9A9-8AB1847DD6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D3020C53-D8B0-401B-8289-2FC4E466D5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7FE7992-F52E-49F5-AFBA-721F414DF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C8E0A97-9821-4EC1-88FB-8035941649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958244F-D503-4761-A934-2937002393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1E3C864-98C9-475E-AF49-2696791B56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A1BDAFB-4680-4EE1-8DDD-A598DB6FD0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8BB8A23-A199-40A1-9CF3-10563E31B3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F94E49CC-0266-47BB-8476-9766BEA65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33E4746-C6D3-4458-BC0E-DDEDED85D2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E1EDFFE-084D-4BA8-B20D-F192F3E032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6C437DB-4545-4113-A12F-5CDD736E1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26228ACF-1439-415A-BE6B-6AFFAAB3F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C6CB3AA-1F49-4344-A535-25BB28BD47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E23F2F7D-E4BD-46AA-A777-BF40565240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5DBBF94C-926F-405E-A145-86BE64F3E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935520" y="8774280"/>
            <a:ext cx="30146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b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93A15B86-F180-45EC-B2C8-D002287226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058760" y="692280"/>
            <a:ext cx="48484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6640" y="4385880"/>
            <a:ext cx="509580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1700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75320" y="128124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868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1700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75320" y="2409480"/>
            <a:ext cx="262656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51200" y="302760"/>
            <a:ext cx="726264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39360" y="240948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868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39360" y="1281240"/>
            <a:ext cx="398124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8680" y="2409480"/>
            <a:ext cx="8158320" cy="102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4" descr=""/>
          <p:cNvPicPr/>
          <p:nvPr/>
        </p:nvPicPr>
        <p:blipFill>
          <a:blip r:embed="rId2"/>
          <a:stretch/>
        </p:blipFill>
        <p:spPr>
          <a:xfrm>
            <a:off x="0" y="0"/>
            <a:ext cx="9602640" cy="938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87040" y="6600600"/>
            <a:ext cx="7736040" cy="231840"/>
          </a:xfrm>
          <a:prstGeom prst="rect">
            <a:avLst/>
          </a:prstGeom>
          <a:noFill/>
          <a:ln w="0">
            <a:noFill/>
          </a:ln>
        </p:spPr>
        <p:txBody>
          <a:bodyPr lIns="0" rIns="9396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ageRef"/>
          <p:cNvSpPr/>
          <p:nvPr/>
        </p:nvSpPr>
        <p:spPr>
          <a:xfrm>
            <a:off x="8731080" y="6553080"/>
            <a:ext cx="47016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fld id="{FB6C0C58-A57A-4822-B602-333F7A3402B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26"/>
          <p:cNvSpPr/>
          <p:nvPr/>
        </p:nvSpPr>
        <p:spPr>
          <a:xfrm>
            <a:off x="914400" y="0"/>
            <a:ext cx="938160" cy="94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27" descr="print_ga"/>
          <p:cNvPicPr/>
          <p:nvPr/>
        </p:nvPicPr>
        <p:blipFill>
          <a:blip r:embed="rId3"/>
          <a:srcRect l="0" t="0" r="0" b="10662"/>
          <a:stretch/>
        </p:blipFill>
        <p:spPr>
          <a:xfrm>
            <a:off x="938160" y="133200"/>
            <a:ext cx="847800" cy="72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51"/>
          <p:cNvGrpSpPr/>
          <p:nvPr/>
        </p:nvGrpSpPr>
        <p:grpSpPr>
          <a:xfrm>
            <a:off x="0" y="0"/>
            <a:ext cx="9602640" cy="6859440"/>
            <a:chOff x="0" y="0"/>
            <a:chExt cx="9602640" cy="6859440"/>
          </a:xfrm>
        </p:grpSpPr>
        <p:pic>
          <p:nvPicPr>
            <p:cNvPr id="44" name="Picture 24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602640" cy="68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249"/>
            <p:cNvSpPr/>
            <p:nvPr/>
          </p:nvSpPr>
          <p:spPr>
            <a:xfrm>
              <a:off x="1228680" y="630360"/>
              <a:ext cx="3103560" cy="82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250" descr=""/>
            <p:cNvPicPr/>
            <p:nvPr/>
          </p:nvPicPr>
          <p:blipFill>
            <a:blip r:embed="rId3"/>
            <a:srcRect l="12649" t="94194" r="71422" b="0"/>
            <a:stretch/>
          </p:blipFill>
          <p:spPr>
            <a:xfrm>
              <a:off x="1224000" y="6127920"/>
              <a:ext cx="1530360" cy="39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48" descr="print_ga"/>
          <p:cNvPicPr/>
          <p:nvPr/>
        </p:nvPicPr>
        <p:blipFill>
          <a:blip r:embed="rId4"/>
          <a:srcRect l="0" t="0" r="0" b="10631"/>
          <a:stretch/>
        </p:blipFill>
        <p:spPr>
          <a:xfrm>
            <a:off x="1268280" y="225360"/>
            <a:ext cx="1798920" cy="1546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51200" y="302760"/>
            <a:ext cx="726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58680" y="1281240"/>
            <a:ext cx="8158320" cy="2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79720" indent="-279720">
              <a:spcBef>
                <a:spcPts val="876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47280" indent="-260640">
              <a:spcBef>
                <a:spcPts val="876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05480" indent="-252720">
              <a:spcBef>
                <a:spcPts val="876"/>
              </a:spcBef>
              <a:buClr>
                <a:srgbClr val="ff9900"/>
              </a:buClr>
              <a:buFont typeface="Wingdings" charset="2"/>
              <a:buChar char="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960" indent="-255960">
              <a:spcBef>
                <a:spcPts val="876"/>
              </a:spcBef>
              <a:buClr>
                <a:srgbClr val="ff9900"/>
              </a:buClr>
              <a:buFont typeface="Arial"/>
              <a:buChar char="­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96840" indent="-301680">
              <a:spcBef>
                <a:spcPts val="876"/>
              </a:spcBef>
              <a:buClr>
                <a:srgbClr val="ff99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96840" indent="-301680">
              <a:spcBef>
                <a:spcPts val="876"/>
              </a:spcBef>
              <a:buClr>
                <a:srgbClr val="000000"/>
              </a:buClr>
              <a:buFont typeface="Arial"/>
              <a:buChar char="¯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aepd.org/Documents/305b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epd.org/NPDES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aepd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Frank.Carubba@dnr.state.ga.us" TargetMode="Externa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"/>
          <p:cNvSpPr/>
          <p:nvPr/>
        </p:nvSpPr>
        <p:spPr>
          <a:xfrm>
            <a:off x="163440" y="1089000"/>
            <a:ext cx="9075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For Storm Water Dischar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9900"/>
                </a:solidFill>
                <a:latin typeface="Arial Black"/>
              </a:rPr>
              <a:t>Associated with Construction 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9933"/>
                </a:solidFill>
                <a:latin typeface="Arial Black"/>
              </a:rPr>
              <a:t>March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3444840" y="3517920"/>
          <a:ext cx="257508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44840" y="3517920"/>
                    <a:ext cx="257508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er to be eligible for this exemption,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rastructure maintenance proje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ust comply with the following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ass grad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bilized by the end of each day with temporary or permanent stabiliz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dur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120 calendar day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>
              <a:spcBef>
                <a:spcPts val="751"/>
              </a:spcBef>
              <a:buClr>
                <a:srgbClr val="ff9900"/>
              </a:buClr>
              <a:buFont typeface="Arial"/>
              <a:buAutoNum type="arabicParenR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lemented at the end of the maintenance proj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II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charges into, or within One Mile Upstream of and within the Same Watershed as, Any Portion of a Biota Impaired Stre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f when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otice of Intent is sub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Impaired Stream Segment has been listed for the criteria violated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F” 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/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Bio M” 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Category 4a, 4b or 5, and the potential cause is either “NP” (nonpoint source) or “UR” (urban runoff),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the ES&amp;PC Plan must include at least four (4) of the  BMPs listed in Part III.C.2. (a) – (u) of the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305(b)/303(d) List Documents (Fin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rgia’s 2012 and subsequent “305(b)/303(d) List Documents (Final)”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ea typeface="Times New Roman"/>
                <a:hlinkClick r:id="rId1"/>
              </a:rPr>
              <a:t>epd.georgia.go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IS Data Sets for biota impaired streams are available on the GAEPD website in ESRI Geodatabase 9.1 format and ESRI Shapefil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eria violated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F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Fish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nd/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Bio M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Impaired Macroinvertebrate Commu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 causes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NP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nonpoint sourc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UR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(urban runoff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must address any site-specific conditions or requirements included in the TMDL Implementation Plan, if the TMDL Implementation Plan for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 finalized at least six months prior to submittal of the </a:t>
            </a: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ice of I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f TMDL Implementation Plans can be viewed on the GAEPD website, </a:t>
            </a: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III.C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iteria Vio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Bio M (Impaired Macroinvertebrate Commun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P (Nonpoint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4a (Water not supporting its use and                                 a TMDL has been develo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40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MDL for Sediment – February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imated Sediment Loading Rates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age Area – 47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 Rate – 422 tons/sq mile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tal Load – 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5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di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ading Rates that Big Creek can assimilate and achieve water quality standa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A (Point Sources) – 0.16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 (Nonpoint Sourcs) – 13 tons/sq mile/y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– 622 tons/ 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7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Sediment Load f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19,000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DL for Sediment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22 tons/y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 Reduction of Sediment Load -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9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9200" y="1201680"/>
            <a:ext cx="89582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Example - Big Creek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3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MDL Implementation Plan – April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local municipal and county E&amp;SC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Erosion and Sedimentation Act and applicable Rules and Reg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the GSWCC Education and Training Certification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9200" y="979200"/>
            <a:ext cx="8958240" cy="88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Total Maximum Daily Loads (TMDL)</a:t>
            </a:r>
            <a:br>
              <a:rPr sz="3200"/>
            </a:br>
            <a:r>
              <a:rPr b="0" lang="en-US" sz="3200" spc="-1" strike="noStrike">
                <a:solidFill>
                  <a:srgbClr val="339933"/>
                </a:solidFill>
                <a:latin typeface="Arial Black"/>
              </a:rPr>
              <a:t>Implementation Pla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2009880"/>
            <a:ext cx="8158320" cy="378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ite-specific conditions or requirements have been included in the TMDL Implementation Plan for the applicable impaired stream seg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PDES construction activities are considered a significant source of pollution and compliance with the Permits should lead to sediment loading for construction sites at or below applicable target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58960" y="1506240"/>
            <a:ext cx="60040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20640" y="2259000"/>
            <a:ext cx="84456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Effective September 24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1 – Stand Alone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2 – Infrastructur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GAR100003 – Common Development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Current NPDES General Permit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4f7296"/>
                </a:solidFill>
                <a:latin typeface="Arial"/>
              </a:rPr>
              <a:t>on the GAEPD and GSWCC websi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 u="sng">
                <a:solidFill>
                  <a:srgbClr val="4f7296"/>
                </a:solidFill>
                <a:uFillTx/>
                <a:latin typeface="Arial"/>
              </a:rPr>
              <a:t>gaswcc.georgia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0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2095560" y="298764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8320" y="1936440"/>
            <a:ext cx="8158320" cy="436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rosion, Sedimentation and Pollution Control Pl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S&amp;PC Plan is Cri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The Plan must be prepared in accordance with Part IV of the Permit and the Plan must be implemented and the Plan must provide for compliance with the Perm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C:\Documents and Settings\fcarubba\Local Settings\Temporary Internet Files\Content.IE5\23TN59Q2\MC900360580[1].wmf"/>
          <p:cNvPicPr/>
          <p:nvPr/>
        </p:nvPicPr>
        <p:blipFill>
          <a:blip r:embed="rId1"/>
          <a:stretch/>
        </p:blipFill>
        <p:spPr>
          <a:xfrm>
            <a:off x="3362400" y="2916360"/>
            <a:ext cx="2346120" cy="2182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lan must include the applicable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S&amp;PC Plan Checkli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ed the GSWCC, available on both the GAEPD and GSWCC website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MPs identified in Part III.C.2.(a) – (u) of the new Permits have been listed in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endix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S&amp;PC Plan Checklists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vised January 20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S&amp;PC Plan Checklist should not be used in lieu of reading and understanding all of the Permit conditions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hecklist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ddress Parts I, II, III, V or VI  of the Perm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ES&amp;PC Plan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on-site wetlands and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waters located on and within 200 feet of the construction s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lineation of the applicable 25-ft and/or 50-ft buffers adjacent to State waters and any additional buffers required by a Local Issuing Authority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90000"/>
              </a:lnSpc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neation of all sampling locations and locations where storm water is discharged to a surface w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Permit Reference:  Part IV.D.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0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s per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Georgia Erosion and Sedimentation A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local Erosion and Sedimentation Control Ordin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TE WA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ludes any and all rivers, streams, creeks, branches, lakes, reservoirs, ponds, drainage systems, springs, wells, and other bodies of surface or subsurface water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atu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ying within or forming a part of the boundaries of the State, which are not entirely confined and retained completely upon the property of a single individual, partnership, or corp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29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Buffer Determinations for Tidal Creeks and Saltwater Marsh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Judson H. Turner, EPD Director, April 2014 Memorandum - available on the GAEPD website, </a:t>
            </a:r>
            <a:r>
              <a:rPr b="0" lang="en-US" sz="20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epd.georgia.g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thodology for Identification of Intermittent and Perennial Streams and Their Origi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ersion 4.11, North Carolina Division of Water Qua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Effective September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groundwater base flows are present, the stream is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will require a bu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feature is dry, then the stream may be intermittent or 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f there is no flowing water within 48 hours of a rain event, the drainage feature is most probably ephemeral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 for well defined channel and point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rested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getation – vegetation wrested from the channel f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normal stream flow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wave ac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33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s on State Waters are measured from the point wher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vegetation has been wrested by normal stream flow or wave action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ested Vege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movement of water that removes soil, debris and vegetation, creating a clear demarcation between water flow and vegetative growth. </a:t>
            </a: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s of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"/>
              </a:rPr>
              <a:t>Stream Buffer Requirements: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n-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warm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25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(cold wa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s: 50-ft buffer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enn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mit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heme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rea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25-ft or 50-ft buffer requirements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pplicable to ponds, lakes, and reservoi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Additional Stream Buffer Exe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hemeral Streams (Excluding Trout Str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heads and Seawalls on Lake Oconee and Lake Sincl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, Repair and/or Upgrade of SWCD Watershed Dams when under the Technical Supervision of the USDA NR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am Crossing for Utility Lines for any EMC or Public Utility under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tory Jurisdiction of the PSC and/or FER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any Cable Televis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-of-Way Posts, Guy Wires, Anchors, Survey Markers and the Replacement of or Maintenance of Existing Utility Structures under the regulatory jurisdiction of the PSC and/or FERC or roadway projects undertaken by DOT or any municipality or coun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AND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MON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on-linea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itial sediment storage requirements and perimeter control BMP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43120" y="431964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NPDES General Permit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62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ading and understanding the Permits are essential to maintaining compl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xpiration Date – July 31,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"/>
          <p:cNvPicPr/>
          <p:nvPr/>
        </p:nvPicPr>
        <p:blipFill>
          <a:blip r:embed="rId1"/>
          <a:stretch/>
        </p:blipFill>
        <p:spPr>
          <a:xfrm>
            <a:off x="3511440" y="2908440"/>
            <a:ext cx="2229120" cy="288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3760" y="1955520"/>
            <a:ext cx="8157960" cy="34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Design Profe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ly, f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construction projects, the </a:t>
            </a:r>
            <a:r>
              <a:rPr b="1" i="1" lang="en-US" sz="2000" spc="-1" strike="noStrike" u="sng">
                <a:solidFill>
                  <a:srgbClr val="339933"/>
                </a:solidFill>
                <a:uFillTx/>
                <a:latin typeface="Arial"/>
              </a:rPr>
              <a:t>design profess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o prepared the ES&amp;PC Plan must inspect the installation of the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ediment storage requirements and perimeter control BMPs for the INITIAL PHASED SUB-PART OR SEGMENT of the linear infrastructure project and ALL SEDIMENT BASINS within seven (7) days after instal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urbed acreage of the initial phased sub-part or segment of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rastructure project must be equal to or greater than 10% of total disturbed acreage but not less than one(1) ac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1196640"/>
            <a:ext cx="83059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53760" y="1955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V – ES&amp;PC Plan – Insp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Prim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ertiary Permitte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easure rainfall once every 24 ho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xcept any    non-working Saturday, Sunday and Federal holiday until  a NOT 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rainfall may be suspended if all areas of the site have undergo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nal stabi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stablished a crop of annual vegetation and a seeding of target perenn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711440" y="4287960"/>
            <a:ext cx="5715000" cy="95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063800"/>
            <a:ext cx="8642520" cy="4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mination of Coverag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-360" y="-2562120"/>
            <a:ext cx="424332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79160" y="2174400"/>
            <a:ext cx="424332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125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33720" y="2650680"/>
            <a:ext cx="4244760" cy="6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spcBef>
                <a:spcPts val="876"/>
              </a:spcBef>
              <a:buNone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876920" y="2286000"/>
            <a:ext cx="3471840" cy="310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C:\Documents and Settings\Snoakes\My Documents\My Pictures\BMP1_35A.gif"/>
          <p:cNvPicPr/>
          <p:nvPr/>
        </p:nvPicPr>
        <p:blipFill>
          <a:blip r:embed="rId1"/>
          <a:stretch/>
        </p:blipFill>
        <p:spPr>
          <a:xfrm>
            <a:off x="4648320" y="1892160"/>
            <a:ext cx="4467240" cy="3759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51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Primary, Secondary or Tertiary) may submit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ice of Terminatio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(NOT)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ediate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ruction activities have been completed and the entire development has undergone final stabilization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s defined in the new perm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orm water discharges associated with construction activities have ceased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ittee may submit a Notice of Termination (NOT) </a:t>
            </a:r>
            <a:r>
              <a:rPr b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for each phase of the infrastructure project, not to exceed four (4) ph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urbed acreage for each phase must be equal or greater than 25% of the total disturbed acreage – except for the final phase,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disturbed acreage for the final phase must be equal to or greater than 10% of the total disturbed acre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mittees may submit a Notice of Termination (NOT) if coverage under the 2013 NPDES General Permit No. GAR100002 is not required for the Primary Permittee of a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ontiguous Areas of Land Disturba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339933"/>
                </a:solidFill>
                <a:latin typeface="Arial"/>
              </a:rPr>
              <a:t>infrastructure construction project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been redefined in the 2013 NPDES General Permit No. GAR10000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01360" y="2009520"/>
            <a:ext cx="815796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Notice of Termination – Attach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py of the NOI previously submitted for coverage under the 2013 NPDES General Permits for Construction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ies of al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ing repor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/or written justification why sampling was not condu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PS locations of the beginning and end of each phase of a linear infrastructure construction project and if applicable, maps identifying significant landmar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25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ation that coverage under the 2013 NPDES General Permit No. GAR100002 is no longer required (e.g., resulting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guous land disturb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ss than one (1) acre 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utine mainten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25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58680" y="1910880"/>
            <a:ext cx="8158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mination of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rimary Permitte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of a Common Development may submit a NOT, even if all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nn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onstruction activities hav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een completed, if and only i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activities have stopped for at least 90 day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tabilization has been implemented by the Primary Permittee and all Secondary Permitt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econdary Permittees have submitted a NOT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te is in compliance with the Per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 algn="ctr">
              <a:spcBef>
                <a:spcPts val="1500"/>
              </a:spcBef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Permit Reference:  Part VI.A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01360" y="2009880"/>
            <a:ext cx="8157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VI – Tertiary Permittee – Common Develop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Primary Permittee must notify the legal title holders of each remaining lot(s) that these lot Owners or Operators will become Tertiary Permittee(s) –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plicable to all lots, including lots that are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ERTIARY PERMITT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ans either the Owner or Operator of a remaining lot(s) within a Common Development where the Primary Permittee and all Secondary Permittees have submitted a NOT in accordance with the Permit (excluding utility companies and contractors working under a Blanket NO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360" y="1838160"/>
            <a:ext cx="815796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&amp;PC Plan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prepared and submitted.  For each NOI submitted, the Tertiary Permittee must submit a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I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rtiary Permittee for the entire construction site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f the owner’s construction site is less than five acres and total land disturbance within each individual lot is less than one ac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n submit a NOT for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individual 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 the permittee failed to submit a NOI Re-Issuance         Notification by deadline (December 24, 2013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ure to comply with this requirement shall constitute a violation of the Georgia Water Control Act for each day until an 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</a:rPr>
              <a:t>initial</a:t>
            </a: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I – Version 20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bmit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0">
              <a:spcBef>
                <a:spcPts val="374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the permittee must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repare and submit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 new ES&amp;PC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ccordance with Part IV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mits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ay all applicable f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ject in accordance with Part II.D of the perm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7080" y="1211040"/>
            <a:ext cx="788688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Tertiary Permitte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01360" y="1837800"/>
            <a:ext cx="81579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PTION (3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wner may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Notice of Intent – Initial Not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ubmit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&amp;PC Plan for t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ntire construction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owner may submit the NOI – Initial Notification as either a Primary Permittee or Tertiary Permittee and 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must provide copies of the Plan to all Secondary Permitt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spcBef>
                <a:spcPts val="1500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Permittees are solely responsible for the payment of NPDES General Permit fees for all planned land disturbing activities – including land disturbing activities planned by any Secondary Permittees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7080" y="1214280"/>
            <a:ext cx="788688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Contact Informatio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06480" y="2030400"/>
            <a:ext cx="8158320" cy="42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EPD Contact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rank M. Carub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:  (404) 651-8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600" indent="0" algn="ctr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 u="sng">
                <a:solidFill>
                  <a:srgbClr val="6685a3"/>
                </a:solidFill>
                <a:uFillTx/>
                <a:latin typeface="Arial"/>
                <a:hlinkClick r:id="rId1"/>
              </a:rPr>
              <a:t>Frank.Carubba@dnr.state.ga.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C:\Program Files\Microsoft Office\MEDIA\CAGCAT10\j0233018.wmf"/>
          <p:cNvPicPr/>
          <p:nvPr/>
        </p:nvPicPr>
        <p:blipFill>
          <a:blip r:embed="rId2"/>
          <a:stretch/>
        </p:blipFill>
        <p:spPr>
          <a:xfrm>
            <a:off x="3922560" y="1847880"/>
            <a:ext cx="2109960" cy="214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FINAL STABILIZATION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“…100% of the soil surface is uniformly covered in permanent vegetation with a density of 70% or greater, or landscaped according to the Plan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uniformly covered with landscaping materials in planned landscaped area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or equivalent permanent stabilization measures as defined in the Manual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excluding a crop of annual vegetation and seeding of target perennials appropriate for the region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2009520"/>
            <a:ext cx="8158320" cy="36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B-CONTRACTOR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means an entity employed or retained by the permittee to conduct any type of construction activity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(as defined in this permit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a construction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400" spc="-1" strike="noStrike" u="sng">
                <a:solidFill>
                  <a:srgbClr val="339933"/>
                </a:solidFill>
                <a:uFillTx/>
                <a:latin typeface="Arial"/>
                <a:ea typeface="Arial"/>
              </a:rPr>
              <a:t>Sub-contractors must complete the appropriate certification course approved by the Georgia Soil and Water Conservation Commission in accordance with the provisions of O.C.G.A. §12-7-19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71720"/>
            <a:ext cx="81583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Defi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ERTIFIED PERSONN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ans a person who has successfully completed the appropriate certification course approved by the GSWCC. (O.C.G.A. 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-7-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0">
              <a:spcBef>
                <a:spcPts val="1500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Subcontra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&amp;SC Inspectors retained by a Per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gulatory Enforcement Insp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03040">
              <a:spcBef>
                <a:spcPts val="751"/>
              </a:spcBef>
              <a:buClr>
                <a:srgbClr val="ff9900"/>
              </a:buClr>
              <a:buFont typeface="Arial"/>
              <a:buChar char="–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esign Professionals and Plan Reviewer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C:\Program Files\Microsoft Office\MEDIA\OFFICE14\Lines\BD14801_.gif"/>
          <p:cNvPicPr/>
          <p:nvPr/>
        </p:nvPicPr>
        <p:blipFill>
          <a:blip r:embed="rId1"/>
          <a:stretch/>
        </p:blipFill>
        <p:spPr>
          <a:xfrm>
            <a:off x="1859040" y="390672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784520"/>
            <a:ext cx="81583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ONTIGUOUS AREAS OF LAND DISTURBANC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purposes of this permit, “include those areas of land disturbances solely separated by drilling and boring activities, water of the State and adjacent State-mandated buffers, roadways and/or railways.  In addition, contiguous areas of land disturbances include all areas of land disturbances at a sole roadway intersection and/or junction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9200" y="1172880"/>
            <a:ext cx="89582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3600" spc="-1" strike="noStrike">
                <a:solidFill>
                  <a:srgbClr val="339933"/>
                </a:solidFill>
                <a:latin typeface="Arial Black"/>
              </a:rPr>
              <a:t>Summary of Chang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76000" y="1794960"/>
            <a:ext cx="8157960" cy="40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0520" indent="-290520">
              <a:spcBef>
                <a:spcPts val="15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I – Coverage under the Permits - Eligibility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i="1" lang="en-US" sz="2400" spc="-1" strike="noStrike">
                <a:solidFill>
                  <a:srgbClr val="339933"/>
                </a:solidFill>
                <a:latin typeface="Arial"/>
              </a:rPr>
              <a:t>For Infrastructure Construction Projects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verage under this perm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quired for infrastructure construction projects that consist solely of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outine maintenanc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for the original purpose of the facility that is performed to maintain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al line and grade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and the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ydraulic capacity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.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0">
              <a:spcBef>
                <a:spcPts val="751"/>
              </a:spcBef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C:\Program Files\Microsoft Office\MEDIA\OFFICE14\Lines\BD21348_.gif"/>
          <p:cNvPicPr/>
          <p:nvPr/>
        </p:nvPicPr>
        <p:blipFill>
          <a:blip r:embed="rId1"/>
          <a:stretch/>
        </p:blipFill>
        <p:spPr>
          <a:xfrm>
            <a:off x="1596960" y="23637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Program Files\Microsoft Office\MEDIA\OFFICE14\Lines\BD21348_.gif"/>
          <p:cNvPicPr/>
          <p:nvPr/>
        </p:nvPicPr>
        <p:blipFill>
          <a:blip r:embed="rId2"/>
          <a:stretch/>
        </p:blipFill>
        <p:spPr>
          <a:xfrm>
            <a:off x="1825560" y="5627520"/>
            <a:ext cx="5715000" cy="12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8:21:18Z</dcterms:created>
  <dc:creator>Ali Wagner</dc:creator>
  <dc:description/>
  <dc:language>en-US</dc:language>
  <cp:lastModifiedBy>Carubba, Frank</cp:lastModifiedBy>
  <cp:lastPrinted>2014-05-08T15:05:27Z</cp:lastPrinted>
  <dcterms:modified xsi:type="dcterms:W3CDTF">2015-02-26T16:42:53Z</dcterms:modified>
  <cp:revision>1122</cp:revision>
  <dc:subject/>
  <dc:title>Title goes here – this sample illustrates a two-line title This is a sample sub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MCOA_FontSize">
    <vt:lpwstr>Medium</vt:lpwstr>
  </property>
  <property fmtid="{D5CDD505-2E9C-101B-9397-08002B2CF9AE}" pid="3" name="MMCOA_Template">
    <vt:lpwstr>\MMC Medium Fonts.pot</vt:lpwstr>
  </property>
</Properties>
</file>