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6012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516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935520" y="-3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0" y="877392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935520" y="877392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lstStyle>
            <a:lvl1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153074E3-553D-473B-BCA2-B86D00A755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E74CA214-DE6A-4D88-AF3B-8D57578020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4033E6C6-1D97-45BE-80CA-F174DD4D31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A61549B2-E63D-4544-B9CF-27552007B0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09574BC9-DF46-460E-845C-D61A05E75B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7C101121-71B9-4636-B5E5-36A6B7DDA3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45E9B91-65E8-42B8-B53E-919182E938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FC4C7A5D-634C-4A1A-A3B8-0FDD677E46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1535E3E7-FBC4-4A10-AF4A-E7D5A5B187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A15EB470-0A06-41A5-9B64-D40B8E05B3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FB38792E-E01B-4F7C-B680-F818EB0E9A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12B10C11-EBF6-404F-A2A8-20B714157D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BF7ECEDD-9099-4870-ABAF-40A0B2FEE7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CA22E02-5CE3-45CE-86E8-34F0CC5144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303A3E89-57DF-443D-AA32-5A4DF7FC74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04006EEA-D5F1-46A2-BD6E-B8DEE35729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A37F685-A72B-4BE3-A960-36A7658FBF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191FE0ED-B338-4677-AF61-9B2FC569CC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24B83AEB-CB47-44E6-8A03-DA0D33A219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6CCDECEB-4486-4B0F-B6F3-4D0CE1C6F5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B6782A04-FF18-489C-AD51-C0B4F334C7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5BB1A18-5F62-4738-A972-5FD72CA7C9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DD1A915-53D4-4EC3-810C-2662E3EF15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388666DA-F022-43EB-9ACF-B67700C26E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321249BE-C904-4CEB-94B8-EFEC1DEEB9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DDED74C-6036-4918-84CD-76EE961079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6F3DF488-6BE9-4B6D-8F89-2D8F6A2684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DD468A4-ED8E-4743-A468-8A4E32BAD7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D47A055-76EE-442A-AF91-8B555C10D7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3A20D28F-8E97-41EF-AF89-28493C1ABE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30D5DDBF-3E59-4FF6-AAB2-565BAE8A90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39488092-CD96-4CCC-9A6C-503C35CCCB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EEA370FB-0121-45DD-A9CD-776D766255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2A847156-DB93-45C2-86C9-EC98546B0F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3F5AA6E9-EAED-4F75-A0D3-04AB91F88C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F74B3AD-C988-4F1F-A1E3-775AAD0AFA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F9821A7C-8F3D-42D6-BF07-1CC4B109E1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E9775086-6878-4768-9DBE-12D53AB1AC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4905C7EE-F14B-4869-8A00-51820173CC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9C4625E-D5C9-4420-BCF1-30464439EB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D36DE91-6DC7-4ED4-B765-761F2C5705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334424A-A54B-4AC1-9E3E-ECBA8242C3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58680" y="240948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3936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700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7532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5868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700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7532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51200" y="302760"/>
            <a:ext cx="7262640" cy="127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3936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58680" y="240948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3936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1700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7532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5868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1700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7532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51200" y="302760"/>
            <a:ext cx="7262640" cy="127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3936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4" descr=""/>
          <p:cNvPicPr/>
          <p:nvPr/>
        </p:nvPicPr>
        <p:blipFill>
          <a:blip r:embed="rId2"/>
          <a:stretch/>
        </p:blipFill>
        <p:spPr>
          <a:xfrm>
            <a:off x="0" y="0"/>
            <a:ext cx="9602640" cy="938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9720" indent="-279720">
              <a:spcBef>
                <a:spcPts val="876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7280" indent="-260640">
              <a:spcBef>
                <a:spcPts val="876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05480" indent="-252720">
              <a:spcBef>
                <a:spcPts val="876"/>
              </a:spcBef>
              <a:buClr>
                <a:srgbClr val="ff9900"/>
              </a:buClr>
              <a:buFont typeface="Wingdings" charset="2"/>
              <a:buChar char="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960" indent="-255960">
              <a:spcBef>
                <a:spcPts val="876"/>
              </a:spcBef>
              <a:buClr>
                <a:srgbClr val="ff9900"/>
              </a:buClr>
              <a:buFont typeface="Arial"/>
              <a:buChar char="­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96840" indent="-301680">
              <a:spcBef>
                <a:spcPts val="876"/>
              </a:spcBef>
              <a:buClr>
                <a:srgbClr val="ff99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96840" indent="-301680">
              <a:spcBef>
                <a:spcPts val="876"/>
              </a:spcBef>
              <a:buClr>
                <a:srgbClr val="0000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96840" indent="-301680">
              <a:spcBef>
                <a:spcPts val="876"/>
              </a:spcBef>
              <a:buClr>
                <a:srgbClr val="0000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87040" y="6600600"/>
            <a:ext cx="7736040" cy="231840"/>
          </a:xfrm>
          <a:prstGeom prst="rect">
            <a:avLst/>
          </a:prstGeom>
          <a:noFill/>
          <a:ln w="0">
            <a:noFill/>
          </a:ln>
        </p:spPr>
        <p:txBody>
          <a:bodyPr lIns="0" rIns="93960" tIns="47160" bIns="471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ageRef"/>
          <p:cNvSpPr/>
          <p:nvPr/>
        </p:nvSpPr>
        <p:spPr>
          <a:xfrm>
            <a:off x="8731080" y="6553080"/>
            <a:ext cx="4701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fld id="{E1DDCB27-46F2-4B38-8276-02B9A8E80BB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26"/>
          <p:cNvSpPr/>
          <p:nvPr/>
        </p:nvSpPr>
        <p:spPr>
          <a:xfrm>
            <a:off x="914400" y="0"/>
            <a:ext cx="938160" cy="94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27" descr="print_ga"/>
          <p:cNvPicPr/>
          <p:nvPr/>
        </p:nvPicPr>
        <p:blipFill>
          <a:blip r:embed="rId3"/>
          <a:srcRect l="0" t="0" r="0" b="10662"/>
          <a:stretch/>
        </p:blipFill>
        <p:spPr>
          <a:xfrm>
            <a:off x="938160" y="133200"/>
            <a:ext cx="847800" cy="72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51"/>
          <p:cNvGrpSpPr/>
          <p:nvPr/>
        </p:nvGrpSpPr>
        <p:grpSpPr>
          <a:xfrm>
            <a:off x="0" y="0"/>
            <a:ext cx="9602640" cy="6859440"/>
            <a:chOff x="0" y="0"/>
            <a:chExt cx="9602640" cy="6859440"/>
          </a:xfrm>
        </p:grpSpPr>
        <p:pic>
          <p:nvPicPr>
            <p:cNvPr id="44" name="Picture 24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602640" cy="685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Rectangle 249"/>
            <p:cNvSpPr/>
            <p:nvPr/>
          </p:nvSpPr>
          <p:spPr>
            <a:xfrm>
              <a:off x="1228680" y="630360"/>
              <a:ext cx="3103560" cy="82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Picture 250" descr=""/>
            <p:cNvPicPr/>
            <p:nvPr/>
          </p:nvPicPr>
          <p:blipFill>
            <a:blip r:embed="rId3"/>
            <a:srcRect l="12649" t="94194" r="71422" b="0"/>
            <a:stretch/>
          </p:blipFill>
          <p:spPr>
            <a:xfrm>
              <a:off x="1224000" y="6127920"/>
              <a:ext cx="1530360" cy="39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" name="Picture 248" descr="print_ga"/>
          <p:cNvPicPr/>
          <p:nvPr/>
        </p:nvPicPr>
        <p:blipFill>
          <a:blip r:embed="rId4"/>
          <a:srcRect l="0" t="0" r="0" b="10631"/>
          <a:stretch/>
        </p:blipFill>
        <p:spPr>
          <a:xfrm>
            <a:off x="1268280" y="225360"/>
            <a:ext cx="1798920" cy="1546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9720" indent="-279720">
              <a:spcBef>
                <a:spcPts val="876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7280" indent="-260640">
              <a:spcBef>
                <a:spcPts val="876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05480" indent="-252720">
              <a:spcBef>
                <a:spcPts val="876"/>
              </a:spcBef>
              <a:buClr>
                <a:srgbClr val="ff9900"/>
              </a:buClr>
              <a:buFont typeface="Wingdings" charset="2"/>
              <a:buChar char="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960" indent="-255960">
              <a:spcBef>
                <a:spcPts val="876"/>
              </a:spcBef>
              <a:buClr>
                <a:srgbClr val="ff9900"/>
              </a:buClr>
              <a:buFont typeface="Arial"/>
              <a:buChar char="­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96840" indent="-301680">
              <a:spcBef>
                <a:spcPts val="876"/>
              </a:spcBef>
              <a:buClr>
                <a:srgbClr val="ff99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96840" indent="-301680">
              <a:spcBef>
                <a:spcPts val="876"/>
              </a:spcBef>
              <a:buClr>
                <a:srgbClr val="0000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96840" indent="-301680">
              <a:spcBef>
                <a:spcPts val="876"/>
              </a:spcBef>
              <a:buClr>
                <a:srgbClr val="0000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aepd.org/Documents/305b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aepd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aepd.org/NPDES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gaepd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mailto:Frank.Carubba@dnr.state.ga.us" TargetMode="External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163440" y="1089000"/>
            <a:ext cx="9075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9900"/>
                </a:solidFill>
                <a:latin typeface="Arial Black"/>
              </a:rPr>
              <a:t>NPDES General Perm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9900"/>
                </a:solidFill>
                <a:latin typeface="Arial Black"/>
              </a:rPr>
              <a:t>For Storm Water Dis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9900"/>
                </a:solidFill>
                <a:latin typeface="Arial Black"/>
              </a:rPr>
              <a:t>Associated with Construction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9933"/>
                </a:solidFill>
                <a:latin typeface="Arial Black"/>
              </a:rPr>
              <a:t>March 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4"/>
          <p:cNvGraphicFramePr/>
          <p:nvPr/>
        </p:nvGraphicFramePr>
        <p:xfrm>
          <a:off x="3444840" y="3517920"/>
          <a:ext cx="2575080" cy="23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4840" y="3517920"/>
                    <a:ext cx="257508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8560" y="1784520"/>
            <a:ext cx="815832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Eligibility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order to be eligible for this exemption,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frastructure maintenance proje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ust comply with the following 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spcBef>
                <a:spcPts val="751"/>
              </a:spcBef>
              <a:buClr>
                <a:srgbClr val="ff9900"/>
              </a:buClr>
              <a:buFont typeface="Arial"/>
              <a:buAutoNum type="arabicParenR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mass grad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spcBef>
                <a:spcPts val="751"/>
              </a:spcBef>
              <a:buClr>
                <a:srgbClr val="ff9900"/>
              </a:buClr>
              <a:buFont typeface="Arial"/>
              <a:buAutoNum type="arabicParenR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bilized by the end of each day with temporary or permanent stabilizat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spcBef>
                <a:spcPts val="751"/>
              </a:spcBef>
              <a:buClr>
                <a:srgbClr val="ff9900"/>
              </a:buClr>
              <a:buFont typeface="Arial"/>
              <a:buAutoNum type="arabicParenR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dur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20 calendar day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spcBef>
                <a:spcPts val="751"/>
              </a:spcBef>
              <a:buClr>
                <a:srgbClr val="ff9900"/>
              </a:buClr>
              <a:buFont typeface="Arial"/>
              <a:buAutoNum type="arabicParenR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nal stabiliz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mplemented at the end of the maintenance project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II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scharges into, or within One Mile Upstream of and within the Same Watershed as, Any Portion of a Biota Impaired Str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f when the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iti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Notice of Intent is submit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Impaired Stream Segment has been listed for the criteria violated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Bio F” (Impaired Fish Communi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/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Bio M” (Impaired Macroinvertebrate Communi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ithin Category 4a, 4b or 5, and the potential cause is either “NP” (nonpoint source) or “UR” (urban runoff), 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Arial"/>
              </a:rPr>
              <a:t>the ES&amp;PC Plan must include at least four (4) of the  BMPs listed in Part III.C.2. (a) – (u) of the perm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305(b)/303(d) List Documents (Final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orgia’s 2012 and subsequent “305(b)/303(d) List Documents (Final)” can be viewed on the GAEPD website, </a:t>
            </a:r>
            <a:r>
              <a:rPr b="0" lang="en-US" sz="2400" spc="-1" strike="noStrike" u="sng">
                <a:solidFill>
                  <a:srgbClr val="6685a3"/>
                </a:solidFill>
                <a:uFillTx/>
                <a:latin typeface="Arial"/>
                <a:ea typeface="Times New Roman"/>
                <a:hlinkClick r:id="rId1"/>
              </a:rPr>
              <a:t>epd.georgia.go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IS Data Sets for biota impaired streams are available on the GAEPD website in ESRI Geodatabase 9.1 format and ESRI Shapefile form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iteria violated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Bio F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Impaired Fish Communi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/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Bio M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Impaired Macroinvertebrate Communi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tential causes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NP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nonpoint sourc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UR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urban runoff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9200" y="979200"/>
            <a:ext cx="895824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Total Maximum Daily Loads (TMDL)</a:t>
            </a:r>
            <a:br>
              <a:rPr sz="3200"/>
            </a:b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Implementation Pla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&amp;PC Plan must address any site-specific conditions or requirements included in the TMDL Implementation Plan, if the TMDL Implementation Plan for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edi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s finalized at least six months prior to submittal of the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it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tice of I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of TMDL Implementation Plans can be viewed on the GAEPD website, </a:t>
            </a:r>
            <a:r>
              <a:rPr b="0" lang="en-US" sz="2400" spc="-1" strike="noStrike" u="sng">
                <a:solidFill>
                  <a:srgbClr val="6685a3"/>
                </a:solidFill>
                <a:uFillTx/>
                <a:latin typeface="Arial"/>
                <a:hlinkClick r:id="rId1"/>
              </a:rPr>
              <a:t>epd.georgia.go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Permit Reference:  Part III.C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eria Viol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Bio M (Impaired Macroinvertebrate Commun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ential 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P (Nonpoint Sou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eg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4a (Water not supporting its use and                                 a TMDL has been develop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40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MDL for Sediment – February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timated Sediment Loading Rates 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isting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age Area – 47 sq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diment Rate – 422 tons/sq mile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tal Load – 19,000 tons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di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ading Rates that Big Creek can assimilate and achieve water quality standa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 (Point Sources) – 0.16 tons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 (Nonpoint Sourcs) – 13 tons/sq mile/y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MDL – 622 tons/ 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7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d Sediment Load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i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9,000 tons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DL for Sediment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622 tons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Reduction of Sediment Load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9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33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MDL Implementation Plan – April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s local municipal and county E&amp;SC Progr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s to the Erosion and Sedimentation Act and applicable Rules and Reg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s to the GSWCC Education and Training Certification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9200" y="979200"/>
            <a:ext cx="895824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Total Maximum Daily Loads (TMDL)</a:t>
            </a:r>
            <a:br>
              <a:rPr sz="3200"/>
            </a:b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Implementation Pla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378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site-specific conditions or requirements have been included in the TMDL Implementation Plan for the applicable impaired stream seg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PDES construction activities are considered a significant source of pollution and compliance with the Permits should lead to sediment loading for construction sites at or below applicable target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758960" y="1506240"/>
            <a:ext cx="60040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NPDES General Perm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620640" y="2259000"/>
            <a:ext cx="84456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Effective September 24,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GAR100001 – Stand Alone Constr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GAR100002 – Infrastructure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GAR100003 – Common Development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7296"/>
                </a:solidFill>
                <a:latin typeface="Arial"/>
              </a:rPr>
              <a:t>Current NPDES General Permits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729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4f7296"/>
                </a:solidFill>
                <a:latin typeface="Arial"/>
              </a:rPr>
              <a:t>on the GAEPD and GSWCC websi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85a3"/>
                </a:solidFill>
                <a:uFillTx/>
                <a:latin typeface="Arial"/>
                <a:hlinkClick r:id="rId1"/>
              </a:rPr>
              <a:t>epd.georgia.gov</a:t>
            </a: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2400" spc="-1" strike="noStrike" u="sng">
                <a:solidFill>
                  <a:srgbClr val="4f7296"/>
                </a:solidFill>
                <a:uFillTx/>
                <a:latin typeface="Arial"/>
              </a:rPr>
              <a:t>gaswcc.georgia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0" descr="C:\Program Files\Microsoft Office\MEDIA\OFFICE14\Lines\BD21348_.gif"/>
          <p:cNvPicPr/>
          <p:nvPr/>
        </p:nvPicPr>
        <p:blipFill>
          <a:blip r:embed="rId2"/>
          <a:stretch/>
        </p:blipFill>
        <p:spPr>
          <a:xfrm>
            <a:off x="2095560" y="298764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8320" y="1936440"/>
            <a:ext cx="815832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rosion, Sedimentation and Pollution Control Pla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S&amp;PC Plan is Crit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The Plan must be prepared in accordance with Part IV of the Permit and the Plan must be implemented and the Plan must provide for compliance with the Permi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C:\Documents and Settings\fcarubba\Local Settings\Temporary Internet Files\Content.IE5\23TN59Q2\MC900360580[1].wmf"/>
          <p:cNvPicPr/>
          <p:nvPr/>
        </p:nvPicPr>
        <p:blipFill>
          <a:blip r:embed="rId1"/>
          <a:stretch/>
        </p:blipFill>
        <p:spPr>
          <a:xfrm>
            <a:off x="3362400" y="2916360"/>
            <a:ext cx="2346120" cy="2182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ES&amp;PC Plan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lan must include the applicable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S&amp;PC Plan Checkli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veloped the GSWCC, available on both the GAEPD and GSWCC websites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vised January 20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MPs identified in Part III.C.2.(a) – (u) of the new Permits have been listed in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ppendix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ES&amp;PC Plan Checklists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vised January 20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S&amp;PC Plan Checklist should not be used in lieu of reading and understanding all of the Permit conditions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hecklist doe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ddress Parts I, II, III, V or VI  of the Perm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Permit Reference:  Part IV.D.1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3760" y="1955520"/>
            <a:ext cx="8157960" cy="36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ES&amp;PC Plan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neation of on-site wetlands and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e waters located on and within 200 feet of the construction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lineation of the applicable 25-ft and/or 50-ft buffers adjacent to State waters and any additional buffers required by a Local Issuing Authority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neation of all sampling locations and locations where storm water is discharged to a surface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Permit Reference:  Part IV.D.1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30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s per th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Georgia Erosion and Sedimentation Ac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nd local Erosion and Sedimentation Control Ordinan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ATE WA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ludes any and all rivers, streams, creeks, branches, lakes, reservoirs, ponds, drainage systems, springs, wells, and other bodies of surface or subsurface water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atu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rtific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lying within or forming a part of the boundaries of the State, which are not entirely confined and retained completely upon the property of a single individual, partnership, or corpo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29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Buffer Determinations for Tidal Creeks and Saltwater Marsh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Judson H. Turner, EPD Director, April 2014 Memorandum - available on the GAEPD website, </a:t>
            </a:r>
            <a:r>
              <a:rPr b="0" lang="en-US" sz="2000" spc="-1" strike="noStrike" u="sng">
                <a:solidFill>
                  <a:srgbClr val="6685a3"/>
                </a:solidFill>
                <a:uFillTx/>
                <a:latin typeface="Arial"/>
                <a:hlinkClick r:id="rId1"/>
              </a:rPr>
              <a:t>epd.georgia.go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thodology for Identification of Intermittent and Perennial Streams and Their Origi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ersion 4.11, North Carolina Division of Water Qualit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Effective September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3760" y="1955520"/>
            <a:ext cx="8157960" cy="36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groundwater base flows are present, the stream i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erenn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termitt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will require a buff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feature is dry, then the stream may be intermittent or 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pheme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If there is no flowing water within 48 hours of a rain event, the drainage feature is most probably ephemeral. </a:t>
            </a:r>
            <a:r>
              <a:rPr b="0" i="1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for well defined channel and point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wrested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getation – vegetation wrested from the channel f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normal stream flow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wave actio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33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ffers on State Waters are measured from the point wher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vegetation has been wrested by normal stream flow or wave action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rested Vege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movement of water that removes soil, debris and vegetation, creating a clear demarcation between water flow and vegetative growth. </a:t>
            </a:r>
            <a:r>
              <a:rPr b="0" i="1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Stream Buffer Requirements: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n-tro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warm wate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s: 25-ft buffer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renn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mitt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re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o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cold wate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s: 50-ft buffer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renn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mitt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pheme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ream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25-ft or 50-ft buffer requirements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applicable to ponds, lakes, and reservoi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53760" y="1955520"/>
            <a:ext cx="815796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 Additional Stream Buffer Exe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hemeral Streams (Excluding Trout Strea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lkheads and Seawalls on Lake Oconee and Lake Sincl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enance, Repair and/or Upgrade of SWCD Watershed Dams when under the Technical Supervision of the USDA NR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eam Crossing for Utility Lines for any EMC or Public Utility under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gulatory Jurisdiction of the PSC and/or FER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 any Cable Televis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ght-of-Way Posts, Guy Wires, Anchors, Survey Markers and the Replacement of or Maintenance of Existing Utility Structures under the regulatory jurisdiction of the PSC and/or FERC or roadway projects undertaken by DOT or any municipality or coun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 ES&amp;PC Plan – Design Profes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AND AL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MON DEVELOPM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ion projects, the </a:t>
            </a:r>
            <a:r>
              <a:rPr b="1" i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design profess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o prepared the ES&amp;PC Plan must inspect the installation of the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itial sediment storage requirements and perimeter control BMPs within seven (7) days after instal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non-linea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FRASTRUC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struction projects, the </a:t>
            </a:r>
            <a:r>
              <a:rPr b="1" i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design profess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o prepared the ES&amp;PC Plan must inspect the installation of the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itial sediment storage requirements and perimeter control BMPs within seven (7) days after instal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C:\Program Files\Microsoft Office\MEDIA\OFFICE14\Lines\BD21348_.gif"/>
          <p:cNvPicPr/>
          <p:nvPr/>
        </p:nvPicPr>
        <p:blipFill>
          <a:blip r:embed="rId1"/>
          <a:stretch/>
        </p:blipFill>
        <p:spPr>
          <a:xfrm>
            <a:off x="1743120" y="4319640"/>
            <a:ext cx="5715000" cy="95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NPDES General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462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ading and understanding the Permits are essential to maintaining compli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piration Date – July 31,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9" descr=""/>
          <p:cNvPicPr/>
          <p:nvPr/>
        </p:nvPicPr>
        <p:blipFill>
          <a:blip r:embed="rId1"/>
          <a:stretch/>
        </p:blipFill>
        <p:spPr>
          <a:xfrm>
            <a:off x="3511440" y="2908440"/>
            <a:ext cx="2229120" cy="2882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3760" y="1955520"/>
            <a:ext cx="8157960" cy="34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 ES&amp;PC Plan – Design Profes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ly, f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IN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frastructure construction projects, the </a:t>
            </a:r>
            <a:r>
              <a:rPr b="1" i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design profess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o prepared the ES&amp;PC Plan must inspect the installation of the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ediment storage requirements and perimeter control BMPs for the INITIAL PHASED SUB-PART OR SEGMENT of the linear infrastructure project and ALL SEDIMENT BASINS within seven (7) days after instal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urbed acreage of the initial phased sub-part or segment of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IN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frastructure project must be equal to or greater than 10% of total disturbed acreage but not less than one(1) ac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 ES&amp;PC Plan – Insp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Primary Permitte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ertiary Permitte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st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asure rainfall once every 24 ho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xcept any    non-working Saturday, Sunday and Federal holiday until  a NOT is submit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of rainfall may be suspended if all areas of the site have undergon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nal stabil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stablished a crop of annual vegetation and a seeding of target perenni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C:\Program Files\Microsoft Office\MEDIA\OFFICE14\Lines\BD21348_.gif"/>
          <p:cNvPicPr/>
          <p:nvPr/>
        </p:nvPicPr>
        <p:blipFill>
          <a:blip r:embed="rId1"/>
          <a:stretch/>
        </p:blipFill>
        <p:spPr>
          <a:xfrm>
            <a:off x="1711440" y="4287960"/>
            <a:ext cx="5715000" cy="95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5440" y="1063800"/>
            <a:ext cx="864252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ination of Coverag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-360" y="-2562120"/>
            <a:ext cx="424332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79160" y="2174400"/>
            <a:ext cx="424332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125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FINAL STABILIZATION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 means “…100% of the soil surface is uniformly covered in permanent vegetation with a density of 70% or greater, or landscaped according to the Plan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uniformly covered with landscaping materials in planned landscaped area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or equivalent permanent stabilization measures as defined in the Manual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excluding a crop of annual vegetation and seeding of target perennials appropriate for the region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125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33720" y="2650680"/>
            <a:ext cx="424476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876920" y="2286000"/>
            <a:ext cx="3471840" cy="31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C:\Documents and Settings\Snoakes\My Documents\My Pictures\BMP1_35A.gif"/>
          <p:cNvPicPr/>
          <p:nvPr/>
        </p:nvPicPr>
        <p:blipFill>
          <a:blip r:embed="rId1"/>
          <a:stretch/>
        </p:blipFill>
        <p:spPr>
          <a:xfrm>
            <a:off x="4648320" y="1892160"/>
            <a:ext cx="4467240" cy="3759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01360" y="2009880"/>
            <a:ext cx="815796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ermitte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Primary, Secondary or Tertiary) may submit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otice of Terminatio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NOT)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ediatel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if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lann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struction activities have been completed and the entire development has undergone final stabilization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s defined in the new perm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torm water discharges associated with construction activities have ceased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te is in compliance with the Perm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Permit Reference:  Part VI.A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01360" y="2009880"/>
            <a:ext cx="81579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or Infrastructure Construction Project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mittee may submit a Notice of Termination (NOT)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Arial"/>
              </a:rPr>
              <a:t>for each phase of the infrastructure project, not to exceed four (4) ph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sturbed acreage for each phase must be equal or greater than 25% of the total disturbed acreage – except for the final phase,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 disturbed acreage for the final phase must be equal to or greater than 10% of the total disturbed acre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01360" y="2009880"/>
            <a:ext cx="81579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or Infrastructure Construction Project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ittees may submit a Notice of Termination (NOT) if coverage under the 2013 NPDES General Permit No. GAR100002 is not required for the Primary Permittee of 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i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339933"/>
                </a:solidFill>
                <a:latin typeface="Arial"/>
              </a:rPr>
              <a:t>infrastructure construction pro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ontiguous Areas of Land Disturba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outine Mainten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400" spc="-1" strike="noStrike">
                <a:solidFill>
                  <a:srgbClr val="339933"/>
                </a:solidFill>
                <a:latin typeface="Arial"/>
              </a:rPr>
              <a:t>infrastructure construction project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been redefined in the 2013 NPDES General Permit No. GAR10000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01360" y="2009520"/>
            <a:ext cx="8157960" cy="46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Notice of Termination – Attach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py of the NOI previously submitted for coverage under the 2013 NPDES General Permits for Construction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ies of all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ampling repor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/or written justification why sampling was not condu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PS locations of the beginning and end of each phase of a linear infrastructure construction project and if applicable, maps identifying significant landmark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ation that coverage under the 2013 NPDES General Permit No. GAR100002 is no longer required (e.g., resulting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tiguous land disturban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ess than one (1) acre o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outine mainten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58680" y="1910880"/>
            <a:ext cx="8158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imary Permitte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of a Common Development may submit a NOT, even if all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lanne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construction activities hav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en completed, if and only if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ion activities have stopped for at least 90 day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stabilization has been implemented by the Primary Permittee and all Secondary Permitte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econdary Permittees have submitted a NOT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te is in compliance with the Perm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spcBef>
                <a:spcPts val="1500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Permit Reference:  Part VI.A.1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01360" y="2009880"/>
            <a:ext cx="8157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tiary Permittee – Common Develop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Primary Permittee must notify the legal title holders of each remaining lot(s) that these lot Owners or Operators will become Tertiary Permittee(s) –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pplicable to all lots, including lots that are less than one ac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ERTIARY PERMITT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ans either the Owner or Operator of a remaining lot(s) within a Common Development where the Primary Permittee and all Secondary Permittees have submitted a NOT in accordance with the Permit (excluding utility companies and contractors working under a Blanket NO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tiary Permitte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01360" y="1838160"/>
            <a:ext cx="815796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PTION (1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wner may submit a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Notice of Intent – Initial Not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individual lo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Tertiary Permittee and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&amp;PC Plan 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individual lo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prepared and submitted.  For each NOI submitted, the Tertiary Permittee must submit a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PTION (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he owner may submit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NOI – Initial Not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 Tertiary Permittee for the entire construction site AN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f the owner’s construction site is less than five acres and total land disturbance within each individual lot is less than one ac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owner may submit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&amp;PC Plan for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ypical individual l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n submit a NOT 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individual l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f the permittee failed to submit a NOI Re-Issuance         Notification by deadline (December 24, 2013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ure to comply with this requirement shall constitute a violation of the Georgia Water Control Act for each day until an </a:t>
            </a: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“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Arial"/>
              </a:rPr>
              <a:t>initial</a:t>
            </a: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”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I – Version 201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submit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spcBef>
                <a:spcPts val="374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, the permittee must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repare and submit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 new ES&amp;PC Pl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accordance with Part IV of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mits an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ay all applicable fe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ject in accordance with Part II.D of the permi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tiary Permitte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01360" y="1837800"/>
            <a:ext cx="8157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PTION (3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wner may submit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Notice of Intent – Initial Not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tire construction s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submit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&amp;PC Plan for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tire construction s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 owner may submit the NOI – Initial Notification as either a Primary Permittee or Tertiary Permittee and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Permittees must provide copies of the Plan to all Secondary Permitt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Permittees are solely responsible for the payment of NPDES General Permit fees for all planned land disturbing activities – including land disturbing activities planned by any Secondary Permitte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57080" y="1214280"/>
            <a:ext cx="788688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Contact Informatio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06480" y="2030400"/>
            <a:ext cx="8158320" cy="42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EPD Contact –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rank M. Carub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phone:  (404) 651-85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 u="sng">
                <a:solidFill>
                  <a:srgbClr val="6685a3"/>
                </a:solidFill>
                <a:uFillTx/>
                <a:latin typeface="Arial"/>
                <a:hlinkClick r:id="rId1"/>
              </a:rPr>
              <a:t>Frank.Carubba@dnr.state.ga.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C:\Program Files\Microsoft Office\MEDIA\CAGCAT10\j0233018.wmf"/>
          <p:cNvPicPr/>
          <p:nvPr/>
        </p:nvPicPr>
        <p:blipFill>
          <a:blip r:embed="rId2"/>
          <a:stretch/>
        </p:blipFill>
        <p:spPr>
          <a:xfrm>
            <a:off x="3922560" y="1847880"/>
            <a:ext cx="2109960" cy="2143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Defin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INAL STABILIZATION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means “…100% of the soil surface is uniformly covered in permanent vegetation with a density of 70% or greater, or landscaped according to the Plan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uniformly covered with landscaping materials in planned landscaped area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or equivalent permanent stabilization measures as defined in the Manual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excluding a crop of annual vegetation and seeding of target perennials appropriate for the region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6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Defin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UB-CONTRACTOR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means an entity employed or retained by the permittee to conduct any type of construction activity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as defined in this permit)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a construction 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Arial"/>
                <a:ea typeface="Arial"/>
              </a:rPr>
              <a:t>Sub-contractors must complete the appropriate certification course approved by the Georgia Soil and Water Conservation Commission in accordance with the provisions of O.C.G.A. §12-7-19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71720"/>
            <a:ext cx="815832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Defin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ERTIFIED PERSONNE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ans a person who has successfully completed the appropriate certification course approved by the GSWCC. (O.C.G.A. 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-7-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Subcontractors retained by a Per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E&amp;SC Inspectors retained by a Per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Regulatory Enforcement Insp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I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Design Professionals and Plan Reviewer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C:\Program Files\Microsoft Office\MEDIA\OFFICE14\Lines\BD14801_.gif"/>
          <p:cNvPicPr/>
          <p:nvPr/>
        </p:nvPicPr>
        <p:blipFill>
          <a:blip r:embed="rId1"/>
          <a:stretch/>
        </p:blipFill>
        <p:spPr>
          <a:xfrm>
            <a:off x="1859040" y="390672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784520"/>
            <a:ext cx="815832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Eligibility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For Infrastructure Construction Project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NTIGUOUS AREAS OF LAND DISTURBANCE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purposes of this permit, “include those areas of land disturbances solely separated by drilling and boring activities, water of the State and adjacent State-mandated buffers, roadways and/or railways.  In addition, contiguous areas of land disturbances include all areas of land disturbances at a sole roadway intersection and/or junction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6000" y="1794960"/>
            <a:ext cx="815796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Eligibility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For Infrastructure Construction Project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verage under this permit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quired for infrastructure construction projects that consist solely of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outine maintenance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for the original purpose of the facility that is performed to maintain 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original line and grade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and 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hydraulic capacity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C:\Program Files\Microsoft Office\MEDIA\OFFICE14\Lines\BD21348_.gif"/>
          <p:cNvPicPr/>
          <p:nvPr/>
        </p:nvPicPr>
        <p:blipFill>
          <a:blip r:embed="rId1"/>
          <a:stretch/>
        </p:blipFill>
        <p:spPr>
          <a:xfrm>
            <a:off x="1596960" y="236376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C:\Program Files\Microsoft Office\MEDIA\OFFICE14\Lines\BD21348_.gif"/>
          <p:cNvPicPr/>
          <p:nvPr/>
        </p:nvPicPr>
        <p:blipFill>
          <a:blip r:embed="rId2"/>
          <a:stretch/>
        </p:blipFill>
        <p:spPr>
          <a:xfrm>
            <a:off x="1825560" y="5627520"/>
            <a:ext cx="5715000" cy="123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7T18:21:18Z</dcterms:created>
  <dc:creator>Ali Wagner</dc:creator>
  <dc:description/>
  <dc:language>en-US</dc:language>
  <cp:lastModifiedBy>Carubba, Frank</cp:lastModifiedBy>
  <cp:lastPrinted>2014-05-08T15:05:27Z</cp:lastPrinted>
  <dcterms:modified xsi:type="dcterms:W3CDTF">2015-02-26T16:42:53Z</dcterms:modified>
  <cp:revision>1122</cp:revision>
  <dc:subject/>
  <dc:title>Title goes here – this sample illustrates a two-line title This is a sample sub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OA_FontSize">
    <vt:lpwstr>Medium</vt:lpwstr>
  </property>
  <property fmtid="{D5CDD505-2E9C-101B-9397-08002B2CF9AE}" pid="3" name="MMCOA_Template">
    <vt:lpwstr>\MMC Medium Fonts.pot</vt:lpwstr>
  </property>
</Properties>
</file>